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50F-CE93-429D-AFA0-AE9717E9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274A-B09D-44F3-BED2-15A57EDF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B1C-3B10-49AE-BDBD-DEFF5558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DAA-E1DD-48DA-A421-4D76AC87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FADF-CB79-4D79-9ED2-1BD3731F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B82B-FEF9-45CA-AA72-2B8F1F25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35CE-64B0-49D6-A0FB-424B8D54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0247-8D57-4896-B0CE-6AFDEE29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A95A-0052-4494-A491-B9935FE3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055B-D4E3-4FF2-8AE6-71610BBD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603D-31E8-4FD5-9358-230168FA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56E-507A-4EE5-A013-04EB9A75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FF96-771C-42E7-A4C8-78ABCB5F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CC87-22E5-4913-9026-16132EAF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E38F-2433-4225-8903-51D025EF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8097-B9B5-461A-AF66-2350EC65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54F2-C932-4B43-A5E5-10EC511D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30F-7080-4B95-85F4-D9823DD2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1AC-C7C3-4680-87CB-06934B22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87F-CCB0-46CD-8035-4B0C0414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6B39-347D-4C4E-AE56-B93F46C2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4F3-C877-42A5-BC2C-76BC6DE7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0B3-1F3B-44AB-8016-3954E162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EC8-C9F1-455E-95DE-D8632E46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AA6C-942F-4734-84C6-D7B97CA2451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0ADE-941F-4DE1-A45F-B7B4A9E6AFF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The Jesse Tree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7386480" cy="26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Today we erect a Jesse tree to remember that God is at work in History even when the cause seems lost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42768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 11:8-9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765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  </a:t>
            </a: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The infant will play near the cobra’s den,  the young child will put its hand into the viper’s nest.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They will neither harm nor destroy </a:t>
            </a: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on all my holy mountain, </a:t>
            </a: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for the earth will be filled with the knowledge of the LORD as the waters cover the sea.</a:t>
            </a:r>
            <a:r>
              <a:rPr b="0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 11:10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238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In that day the Root of Jesse will stand as a banner for the peoples; the nations will rally to him, and his resting place will be glorious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d47d"/>
                </a:solidFill>
                <a:latin typeface="comic"/>
              </a:rPr>
              <a:t>   </a:t>
            </a: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The Jesse Tree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0080" y="1523880"/>
            <a:ext cx="3875040" cy="4954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038480" y="1371600"/>
            <a:ext cx="373392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Jesse was King David’s Fath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宋体"/>
              </a:rPr>
              <a:t>God promised that the Messiah would come from the line of King David but . .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imes New Roman"/>
                <a:ea typeface="宋体"/>
              </a:rPr>
              <a:t>the monarchy of the royal house of David came to an end with the destruction of the temple in 587 BC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’s Jesse Shoot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  <a:ea typeface="宋体"/>
              </a:rPr>
              <a:t>In the 9th century BC, the prophet Isaiah received a vision from God that showed that God would still honor his promise to David for the promised Messiah.  He compared the fallen house of  king David to a cut off tree out of whose stump grew a branch. This is the branch of Jesse’s tree; this is the branch out of which Jesus would be born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  <a:ea typeface="宋体"/>
              </a:rPr>
              <a:t>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52280"/>
            <a:ext cx="72388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A Modern jesse tree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7315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5181480" cy="50612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28600" y="304920"/>
            <a:ext cx="74772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 11:10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47340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 11:1-3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7650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宋体"/>
              </a:rPr>
              <a:t>A shoot will come up from the stump of Jesse; 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宋体"/>
              </a:rPr>
              <a:t>   from his roots a Branch will bear fruit. The Spirit of the LORD will rest on him— the Spirit of wisdom and of understanding, 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宋体"/>
              </a:rPr>
              <a:t>   the Spirit of counsel and of might, 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Arial"/>
                <a:ea typeface="宋体"/>
              </a:rPr>
              <a:t>   the Spirit of the knowledge and fear of the LORD and he will delight in the fear of the LORD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42768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 11:4-5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765000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 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He will not judge by what he sees with his eyes, or decide by what he hears with his ears;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but with righteousness he will judge the needy, with justice he will give decisions for the poor of the earth. 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He will strike the earth with the rod of his mouth; with the breath of his lips he will slay the wicked.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Righteousness will be his belt </a:t>
            </a:r>
            <a:br>
              <a:rPr sz="3200"/>
            </a:b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and faithfulness the sash around his waist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42768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1f14"/>
                </a:solidFill>
                <a:latin typeface="comic"/>
              </a:rPr>
              <a:t>Isaiah 11:6-7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765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</a:t>
            </a: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 </a:t>
            </a: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The wolf will live with the lamb, </a:t>
            </a: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the leopard will lie down with the goat, the calf and the lion and the yearling together;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and a little child will lead them.  The cow will feed with the bear, </a:t>
            </a: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their young will lie down together, </a:t>
            </a:r>
            <a:br>
              <a:rPr sz="3600"/>
            </a:br>
            <a:r>
              <a:rPr b="1" lang="en-US" sz="3600" spc="-1" strike="noStrike">
                <a:solidFill>
                  <a:srgbClr val="2f1311"/>
                </a:solidFill>
                <a:latin typeface="Times New Roman"/>
                <a:ea typeface="宋体"/>
              </a:rPr>
              <a:t>and the lion will eat straw like the ox. </a:t>
            </a:r>
            <a:br>
              <a:rPr sz="3600"/>
            </a:br>
            <a:br>
              <a:rPr sz="1800"/>
            </a:b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20:46:36Z</dcterms:created>
  <dc:creator>Preferred Customer</dc:creator>
  <dc:description/>
  <dc:language>en-US</dc:language>
  <cp:lastModifiedBy>Frank Schaefer</cp:lastModifiedBy>
  <dcterms:modified xsi:type="dcterms:W3CDTF">2010-11-16T21:45:35Z</dcterms:modified>
  <cp:revision>145</cp:revision>
  <dc:subject/>
  <dc:title>Slide 1</dc:title>
</cp:coreProperties>
</file>