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2A956-9648-4CB6-A6BB-FFDE6917C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129B0-12C8-419B-9A34-79671BEF4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8A3E1-A73E-45CB-A3AF-02E2DA87F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98A05-D951-4F90-8D7D-F77AA1C09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1ACA1-4DFE-48AB-BE2F-C978DD914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F988E-41B9-4175-8535-BB26286DA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A310A-6614-41B0-8762-34E29DFB4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D8DE6-551B-4806-9D1B-6D5E743F7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04F88-B52E-410D-8635-6EB1ABA64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3F918-4757-483C-B1C5-B1C3E3DF3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D0555-C54D-4B03-BC42-B400CE4A4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14FD7-F5A3-4E8B-90F9-9CB89449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056FC-5998-4BA3-8A65-00E91E296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7EE0B-F444-434D-9317-F8D0D9E97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7CA4D-6884-46AB-ACD8-93A011A23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DAAEDA-A3BC-4970-A079-51A8E71A9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285C1-B22A-4592-B107-077DE3D53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C9740-CC23-468E-82AD-58C3800CC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E3E02-12D9-4DCE-9390-F77995BF0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48B33-A074-46F4-B0A0-CE0258918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ADAD0-5683-4C18-97B7-A0BF81A6E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D88C6-C868-40D3-A509-B8F8C120F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D3662-BB02-42C8-BAB5-83DC20EA6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9CFE-39B2-4309-81EC-4739141E3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370B-12E1-4C81-9ACF-77177A282377}"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3A4A-2B79-40FF-BAD5-222E56020125}"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14"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Then the LORD said, “Rise and anoint him; this is the one.” </a:t>
            </a:r>
            <a:br>
              <a:rPr sz="3600"/>
            </a:b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So Samuel took the horn of oil and anointed him in the presence of his brothers, and from that day on the Spirit of the LORD came powerfully upon David.</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Isaiah’s Jesse Shoot</a:t>
            </a:r>
            <a:endParaRPr b="0" lang="en-US" sz="4800" spc="-1" strike="noStrike">
              <a:solidFill>
                <a:srgbClr val="f7d47d"/>
              </a:solidFill>
              <a:latin typeface="Arial"/>
            </a:endParaRPr>
          </a:p>
        </p:txBody>
      </p:sp>
      <p:sp>
        <p:nvSpPr>
          <p:cNvPr id="198" name="PlaceHolder 2"/>
          <p:cNvSpPr>
            <a:spLocks noGrp="1"/>
          </p:cNvSpPr>
          <p:nvPr>
            <p:ph/>
          </p:nvPr>
        </p:nvSpPr>
        <p:spPr>
          <a:xfrm>
            <a:off x="3429000" y="1294920"/>
            <a:ext cx="419112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One of Jesus’ predecessors was King David.  God established David on the throne of Israel and promised that the Messiah would come from his line to rule forever.  David was the youngest son of Jesse, a shepherd boy of slight statue.</a:t>
            </a:r>
            <a:endParaRPr b="0" lang="en-US" sz="2800" spc="-1" strike="noStrike">
              <a:solidFill>
                <a:srgbClr val="2f1311"/>
              </a:solidFill>
              <a:latin typeface="Arial"/>
            </a:endParaRPr>
          </a:p>
        </p:txBody>
      </p:sp>
      <p:pic>
        <p:nvPicPr>
          <p:cNvPr id="199" name="" descr=""/>
          <p:cNvPicPr/>
          <p:nvPr/>
        </p:nvPicPr>
        <p:blipFill>
          <a:blip r:embed="rId1"/>
          <a:stretch/>
        </p:blipFill>
        <p:spPr>
          <a:xfrm>
            <a:off x="380880" y="1219320"/>
            <a:ext cx="289404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1 Samuel 16:5-13</a:t>
            </a:r>
            <a:endParaRPr b="0" lang="en-US" sz="4000" spc="-1" strike="noStrike">
              <a:solidFill>
                <a:srgbClr val="f7d47d"/>
              </a:solidFill>
              <a:latin typeface="Arial"/>
            </a:endParaRPr>
          </a:p>
        </p:txBody>
      </p:sp>
      <p:pic>
        <p:nvPicPr>
          <p:cNvPr id="201" name="" descr=""/>
          <p:cNvPicPr/>
          <p:nvPr/>
        </p:nvPicPr>
        <p:blipFill>
          <a:blip r:embed="rId1"/>
          <a:stretch/>
        </p:blipFill>
        <p:spPr>
          <a:xfrm>
            <a:off x="1828800" y="1219320"/>
            <a:ext cx="424980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3" name="PlaceHolder 2"/>
          <p:cNvSpPr>
            <a:spLocks noGrp="1"/>
          </p:cNvSpPr>
          <p:nvPr>
            <p:ph/>
          </p:nvPr>
        </p:nvSpPr>
        <p:spPr>
          <a:xfrm>
            <a:off x="228600" y="1981080"/>
            <a:ext cx="7386480" cy="426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ea typeface="宋体"/>
              </a:rPr>
              <a:t>Today, we hang a Shepherd's crook  to remember that king David was a shepherd who became a shepherd to his people. His descendant, Jesus is the good Shepherd who will reign forever and ever.</a:t>
            </a:r>
            <a:r>
              <a:rPr b="0"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151920"/>
            <a:ext cx="473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1 Samuel 16:5-13</a:t>
            </a:r>
            <a:endParaRPr b="0" lang="en-US" sz="4000" spc="-1" strike="noStrike">
              <a:solidFill>
                <a:srgbClr val="f7d47d"/>
              </a:solidFill>
              <a:latin typeface="Arial"/>
            </a:endParaRPr>
          </a:p>
        </p:txBody>
      </p:sp>
      <p:sp>
        <p:nvSpPr>
          <p:cNvPr id="205" name="PlaceHolder 2"/>
          <p:cNvSpPr>
            <a:spLocks noGrp="1"/>
          </p:cNvSpPr>
          <p:nvPr>
            <p:ph/>
          </p:nvPr>
        </p:nvSpPr>
        <p:spPr>
          <a:xfrm>
            <a:off x="-360" y="914400"/>
            <a:ext cx="792468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Then he [judge Samuel] consecrated Jesse and his sons and invited them to the sacrifice. </a:t>
            </a: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When they arrived, Samuel saw Eliab and thought, “Surely the LORD’s anointed stands here before the LORD.” </a:t>
            </a:r>
            <a:endParaRPr b="0" lang="en-US" sz="36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But the LORD said to Samuel, “Do not consider his appearance or his height, for I have rejected him.</a:t>
            </a:r>
            <a:r>
              <a:rPr b="0"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07" name="PlaceHolder 2"/>
          <p:cNvSpPr>
            <a:spLocks noGrp="1"/>
          </p:cNvSpPr>
          <p:nvPr>
            <p:ph/>
          </p:nvPr>
        </p:nvSpPr>
        <p:spPr>
          <a:xfrm>
            <a:off x="228600" y="1219320"/>
            <a:ext cx="769608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LORD does not look at the things people look at. People look at the outward appearance, but the LORD looks at the heart.”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ea typeface="宋体"/>
              </a:rPr>
              <a:t>Then Jesse called Abinadab and had him pass in front of Samuel. But Samuel said, “The LORD has not chosen this one eith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09"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br>
              <a:rPr sz="3600"/>
            </a:br>
            <a:endParaRPr b="0" lang="en-US" sz="3200" spc="-1" strike="noStrike">
              <a:solidFill>
                <a:srgbClr val="2f1311"/>
              </a:solidFill>
              <a:latin typeface="Arial"/>
            </a:endParaRPr>
          </a:p>
        </p:txBody>
      </p:sp>
      <p:sp>
        <p:nvSpPr>
          <p:cNvPr id="210" name=""/>
          <p:cNvSpPr/>
          <p:nvPr/>
        </p:nvSpPr>
        <p:spPr>
          <a:xfrm>
            <a:off x="533520" y="1066680"/>
            <a:ext cx="685800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Jesse then had Shammah pass by, but Samuel said, “Nor has the LORD chosen this one.” Jesse had seven of his sons pass before Samuel, but Samuel said to him, “The LORD has not chosen these.” So he asked Jesse, “Are these all the sons you have?”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1f14"/>
                </a:solidFill>
                <a:latin typeface="comic"/>
                <a:ea typeface="宋体"/>
              </a:rPr>
              <a:t>1 Samuel 16:5-13</a:t>
            </a:r>
            <a:endParaRPr b="0" lang="en-US" sz="3600" spc="-1" strike="noStrike">
              <a:solidFill>
                <a:srgbClr val="f7d47d"/>
              </a:solidFill>
              <a:latin typeface="Arial"/>
            </a:endParaRPr>
          </a:p>
        </p:txBody>
      </p:sp>
      <p:sp>
        <p:nvSpPr>
          <p:cNvPr id="212" name="PlaceHolder 2"/>
          <p:cNvSpPr>
            <a:spLocks noGrp="1"/>
          </p:cNvSpPr>
          <p:nvPr>
            <p:ph/>
          </p:nvPr>
        </p:nvSpPr>
        <p:spPr>
          <a:xfrm>
            <a:off x="0" y="990720"/>
            <a:ext cx="76500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a:t>
            </a:r>
            <a:r>
              <a:rPr b="0" lang="en-US" sz="3600" spc="-1" strike="noStrike">
                <a:solidFill>
                  <a:srgbClr val="2f1311"/>
                </a:solidFill>
                <a:latin typeface="Arial"/>
              </a:rPr>
              <a:t>There is still the youngest,” Jesse answered. “He is tending the sheep.” </a:t>
            </a: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Samuel said, “Send for him; we will not sit down until he arrives.” </a:t>
            </a:r>
            <a:endParaRPr b="0" lang="en-US" sz="3600" spc="-1" strike="noStrike">
              <a:solidFill>
                <a:srgbClr val="2f1311"/>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So he sent for him and had him brought in. He was glowing with health and had a fine appearance and handsome features.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34:14Z</dcterms:modified>
  <cp:revision>147</cp:revision>
  <dc:subject/>
  <dc:title>Slide 1</dc:title>
</cp:coreProperties>
</file>