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B1F-E0DE-4A60-AC35-17C22BE8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2BF-CB92-4B15-BA65-386BEEFB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1EA-6BF2-465B-9476-69D2FE8D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FE5-0D53-4FEC-9161-66C9769F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7A5-1A52-40A1-8824-D87883D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B6F-5756-4184-85C5-66053602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51C-335A-4E51-8315-EDE007A2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1A0-7613-4771-8082-6287697F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A9A-B7DB-46B0-ADC6-6670AAE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F95-BA00-494A-A977-160412D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077-1241-45A0-B2DE-D927E54A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985-1450-4467-9E8C-65CACC7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FBCC-D9B4-41F6-A994-E6459A92A8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Old English Text MT"/>
              </a:rPr>
              <a:t>The King of K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9144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n in a sta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humbly riding on a don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suffers for His 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0520" y="1600200"/>
            <a:ext cx="802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5130" r="11539" b="0"/>
          <a:stretch/>
        </p:blipFill>
        <p:spPr>
          <a:xfrm>
            <a:off x="0" y="0"/>
            <a:ext cx="9296280" cy="735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calls all people of the world to be his subje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rose from the d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191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will reign fore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loves and ca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you and me person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48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King of kings,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Lord of lord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mes to your mind when you think of “K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986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er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9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ing of Far Far 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14600"/>
            <a:ext cx="7391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76"/>
          <a:stretch/>
        </p:blipFill>
        <p:spPr>
          <a:xfrm>
            <a:off x="1295280" y="380880"/>
            <a:ext cx="6324840" cy="474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losest Thing we have to a Kingdom in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Inkpen2 Script"/>
              </a:rPr>
              <a:t>Disn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-life king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563868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Juan Carlos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136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a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omp and sty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548"/>
          <a:stretch/>
        </p:blipFill>
        <p:spPr>
          <a:xfrm>
            <a:off x="380880" y="1289160"/>
            <a:ext cx="8153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Jesus is a King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of a different ki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5:52:40Z</dcterms:created>
  <dc:creator>Frank Schaefer</dc:creator>
  <dc:description/>
  <dc:language>en-US</dc:language>
  <cp:lastModifiedBy>Frank Schaefer</cp:lastModifiedBy>
  <dcterms:modified xsi:type="dcterms:W3CDTF">2010-03-09T21:13:15Z</dcterms:modified>
  <cp:revision>13</cp:revision>
  <dc:subject/>
  <dc:title>The King of Kings</dc:title>
</cp:coreProperties>
</file>